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png" ContentType="image/png"/>
  <Override PartName="/ppt/media/image14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DF588-F27F-4AAC-BE4A-12EDDF7F31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88B43-158A-4313-A17A-101A9233CB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27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sr-Latn-CS" sz="1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51638-45ED-43E8-A556-AB2CC080AA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8E3FD-35C7-41D5-8B6C-AF1410EE5D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4CCA6-9AF7-431A-B55E-4400E99316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2258C-8CC8-4DB8-A358-D8547E3A33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91ECC-4E05-419B-82CF-C50AF13F4B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C8C31-0ADB-4A94-AFBB-BF34A78C4C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D131D-09AF-4EC8-ADFC-C3FBA8CD97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0CA22-17BD-417F-9516-FB4F25E2F3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ABA0A-D244-4FD9-AFEA-BE69C77566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883A0-844F-4764-A3C7-46B548DE6F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69AD-0A43-4B7B-A06E-12C1E1881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822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73680"/>
            <a:ext cx="822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5273-50D1-4636-9D97-BE1D23E29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7368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7368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BEDB-9FE9-46C3-919F-0F44B6A02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0480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0480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7368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7368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7368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DD16-B78B-43E2-8CBF-C01D84DB3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04800"/>
            <a:ext cx="8229600" cy="47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BE09-17F3-4263-B505-F86D23D19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82296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45F1-59E7-4D4E-B8B5-82C084EFD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40158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04800"/>
            <a:ext cx="40158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F6F2-9B9A-45D0-8DA9-D18CDD6D7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AEEF-4362-4B7E-A1B1-F5EB80655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25520" y="122040"/>
            <a:ext cx="8261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4FE4-8CFD-4DEB-8D1E-E124F49E5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04800"/>
            <a:ext cx="40158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7368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FE18-AB3F-4D7A-A02B-61C6EB6B0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40158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7368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D767-D7E7-42E5-9A53-D9EC5CC86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73680"/>
            <a:ext cx="822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8C75-B48A-41D8-AAF3-BF01EC625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0" y="6454800"/>
            <a:ext cx="9144000" cy="4032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04800"/>
            <a:ext cx="82296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-36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Предавање бр.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505200"/>
            <a:ext cx="2895840" cy="3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нформа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79720" y="6505200"/>
            <a:ext cx="2133720" cy="3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41E5C-3575-4A32-8098-79AED0AD9E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3720" y="1268280"/>
            <a:ext cx="8218800" cy="0"/>
          </a:xfrm>
          <a:prstGeom prst="line">
            <a:avLst/>
          </a:prstGeom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9"/>
          <p:cNvSpPr/>
          <p:nvPr/>
        </p:nvSpPr>
        <p:spPr>
          <a:xfrm>
            <a:off x="423720" y="1312920"/>
            <a:ext cx="4186440" cy="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Date Placeholder 2"/>
          <p:cNvSpPr/>
          <p:nvPr/>
        </p:nvSpPr>
        <p:spPr>
          <a:xfrm>
            <a:off x="0" y="6424560"/>
            <a:ext cx="38656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ooter Placeholder 3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lide Number Placeholder 4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DA7A9-E940-4BB2-96C7-AA4CA1DC900B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2053800"/>
            <a:ext cx="9144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Palatino Linotype"/>
              </a:rPr>
              <a:t>ОСНОВНИ ПРИНЦИПИ РАДА И ПРИМЕНА РАДИОГРАФИСАЊА У ОРАЛНОЈ ХИРУРГИЈИ </a:t>
            </a:r>
            <a:r>
              <a:rPr b="1" lang="en-US" sz="4000" spc="-1" strike="noStrike">
                <a:solidFill>
                  <a:srgbClr val="000066"/>
                </a:solidFill>
                <a:latin typeface="Palatino Linotype"/>
              </a:rPr>
              <a:t>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1120" y="4060800"/>
            <a:ext cx="8642520" cy="20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Palatino Linotype"/>
              </a:rPr>
              <a:t>Назив предмета:</a:t>
            </a:r>
            <a:r>
              <a:rPr b="1" lang="sr-Latn-CS" sz="14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1" lang="sr-Latn-C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lang="sr-CS" sz="14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2</a:t>
            </a:r>
            <a:r>
              <a:rPr b="1" lang="sr-Latn-CS" sz="14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lang="sr-Latn-C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lang="sr-CS" sz="1400" spc="-1" strike="noStrike">
                <a:solidFill>
                  <a:srgbClr val="000000"/>
                </a:solidFill>
                <a:latin typeface="Palatino Linotype"/>
              </a:rPr>
              <a:t>Час</a:t>
            </a:r>
            <a:r>
              <a:rPr b="1" lang="sr-Latn-CS" sz="1400" spc="-1" strike="noStrike">
                <a:solidFill>
                  <a:srgbClr val="000000"/>
                </a:solidFill>
                <a:latin typeface="Palatino Linotype"/>
              </a:rPr>
              <a:t>: </a:t>
            </a:r>
            <a:r>
              <a:rPr b="1" lang="sr-CS" sz="14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Palatino Linotype"/>
              </a:rPr>
              <a:t>3-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Palatino Linotype"/>
              </a:rPr>
              <a:t>Тематске јединице: </a:t>
            </a:r>
            <a:r>
              <a:rPr b="0" lang="sr-Latn-C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Palatino Linotype"/>
              </a:rPr>
              <a:t>Принципи постављања дијагнозе Принципи асептичног рада Употреба </a:t>
            </a:r>
            <a:r>
              <a:rPr b="1" lang="en-U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Palatino Linotype"/>
              </a:rPr>
              <a:t>инструмената Основни принципи хируршког рада у устима Индикације </a:t>
            </a:r>
            <a:r>
              <a:rPr b="1" lang="en-U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Palatino Linotype"/>
              </a:rPr>
              <a:t>за примену радиографисања у оралној хирургији. Технике </a:t>
            </a:r>
            <a:r>
              <a:rPr b="1" lang="en-U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Palatino Linotype"/>
              </a:rPr>
              <a:t>радиографисањ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Palatino Linotype"/>
              </a:rPr>
              <a:t>Припремио</a:t>
            </a:r>
            <a:r>
              <a:rPr b="0" lang="sr-Latn-CS" sz="1400" spc="-1" strike="noStrike">
                <a:solidFill>
                  <a:srgbClr val="000000"/>
                </a:solidFill>
                <a:latin typeface="Palatino Linotype"/>
              </a:rPr>
              <a:t>: </a:t>
            </a:r>
            <a:r>
              <a:rPr b="0" lang="sr-Latn-C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i="1" lang="sr-CS" sz="1400" spc="-1" strike="noStrike">
                <a:solidFill>
                  <a:srgbClr val="000000"/>
                </a:solidFill>
                <a:latin typeface="Palatino Linotype"/>
              </a:rPr>
              <a:t>Доц. др Марија Бубал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4"/>
          <p:cNvSpPr/>
          <p:nvPr/>
        </p:nvSpPr>
        <p:spPr>
          <a:xfrm>
            <a:off x="936720" y="3838680"/>
            <a:ext cx="4782960" cy="1440"/>
          </a:xfrm>
          <a:prstGeom prst="line">
            <a:avLst/>
          </a:prstGeom>
          <a:ln w="38160">
            <a:solidFill>
              <a:srgbClr val="fee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0" y="0"/>
            <a:ext cx="9144000" cy="194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7"/>
          <p:cNvSpPr/>
          <p:nvPr/>
        </p:nvSpPr>
        <p:spPr>
          <a:xfrm>
            <a:off x="0" y="1995480"/>
            <a:ext cx="914400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582480" y="6180120"/>
            <a:ext cx="7861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Copyright © 201</a:t>
            </a:r>
            <a:r>
              <a:rPr b="0" lang="sr-Latn-RS" sz="1000" spc="-1" strike="noStrike">
                <a:solidFill>
                  <a:srgbClr val="000000"/>
                </a:solidFill>
                <a:latin typeface="Palatino Linotype"/>
              </a:rPr>
              <a:t>9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 – Факултет медицинских наука Универзитета у Крагујевцу. Копирање и умножавање није дозвољено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memo grb copy"/>
          <p:cNvPicPr/>
          <p:nvPr/>
        </p:nvPicPr>
        <p:blipFill>
          <a:blip r:embed="rId1"/>
          <a:stretch/>
        </p:blipFill>
        <p:spPr>
          <a:xfrm>
            <a:off x="209520" y="166680"/>
            <a:ext cx="8737560" cy="160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66"/>
                </a:solidFill>
                <a:latin typeface="Palatino Linotype"/>
              </a:rPr>
              <a:t>Принципи асептичног рада 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393560"/>
            <a:ext cx="8229600" cy="472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 Linotype"/>
              </a:rPr>
              <a:t>Припрема инструмената за стерилизацију врши се на следећ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 Linotype"/>
              </a:rPr>
              <a:t>начин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Метални инструменти се после употребе одлажу у одговарајуће посуде и потапају у дезинфицијенс (1-3% асепсол, страминол), 60 мину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Затим се перу топлом текућом водом и четком ради уклањања органског материјала, бришу, проверава се њихова исправност и одлажу се у металне кутије до стерилизац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Хируршки мантили, компресе и друго рубље се машински перу и пеглају, а затим се одлажу у добоше са двоструким рупичастим зидовима у којима се врши стерилизац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Date Placeholder 3"/>
          <p:cNvSpPr/>
          <p:nvPr/>
        </p:nvSpPr>
        <p:spPr>
          <a:xfrm>
            <a:off x="0" y="6424560"/>
            <a:ext cx="38656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7886F-43AA-4DDF-AA71-4507E712024E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66"/>
                </a:solidFill>
                <a:latin typeface="Palatino Linotype"/>
              </a:rPr>
              <a:t>Принципи асептичног рада 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504800"/>
            <a:ext cx="8229600" cy="47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У оралнохируршкој пракси се најчешће примењују следеће методе стерилизациј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-стерилизација сувим загрејаним ваздухом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(на160ºС у трајању од 2 сата и на180ºС у трајању од 1 сат). Сувиим загрејаним ваздухом се стерилишу метални предмети и посуд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-</a:t>
            </a: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стерилизација воденом паром под притиском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 (на 128ºС , притисак 253,3 кРа, 30 минута или на 134ºС, притисак 303,9 кРа, 20 минута). На овај начин се стерилише хируршко рубље, газа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Хируршке рукавице су фабрички стерилисане и упаковане у стерилном паковању и служе за једнократну употреб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Date Placeholder 3"/>
          <p:cNvSpPr/>
          <p:nvPr/>
        </p:nvSpPr>
        <p:spPr>
          <a:xfrm>
            <a:off x="0" y="6424560"/>
            <a:ext cx="3879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C4BEF-0252-42A0-B205-78CB9E4CFEEA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66"/>
                </a:solidFill>
                <a:latin typeface="Palatino Linotype"/>
              </a:rPr>
              <a:t>Принципи асептичног рада 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247680" y="1504800"/>
            <a:ext cx="8686800" cy="47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latino Linotype"/>
              </a:rPr>
              <a:t>Припрема лекара,асистента и иснструментарке подразумева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-постављање капе на главу, маске преко носа и ус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-хируршко прање ру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-облачење стерилног хируршког манти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-навлачење стерилних хируршких рукави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Прање руку треба да сведе на минимум број микроорганизама на кожи. Спроводи се истискивањем антисептичког раствора на длан једне руке, и систематичним прањем четком од врхова пристију једне и друге руке до лактова. Када се сапуница спере текућом водом од врхова прстију ка лактовима, руке се још једном оперу антисептичким раствором и осуше стерилном компресом. Цео поступак траје 5-6 мину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Date Placeholder 3"/>
          <p:cNvSpPr/>
          <p:nvPr/>
        </p:nvSpPr>
        <p:spPr>
          <a:xfrm>
            <a:off x="0" y="6424560"/>
            <a:ext cx="4059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EEE9D-EEDC-4EF3-BBF5-2779CD35F713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66"/>
                </a:solidFill>
                <a:latin typeface="Palatino Linotype"/>
              </a:rPr>
              <a:t>Принципи асептичног рада 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504800"/>
            <a:ext cx="8229600" cy="47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latino Linotype"/>
              </a:rPr>
              <a:t>Припрема операцијског поља подразумев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-неколико дана пре интервенције уклонити каменац, меке наслаге, конкременте, извадити гангренозне зубе, санирати инфламацију гингив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-пре интервенције кожу у периоралном пределу пребрисати антиептичким растворима (повидон-јодид 10%, асепсол 1%), око уснене шупљине и носа ка перифериј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-усна шупљина се припрема брисањем зуба, гингиве, слузокоже уста и језика истим раствори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Date Placeholder 3"/>
          <p:cNvSpPr/>
          <p:nvPr/>
        </p:nvSpPr>
        <p:spPr>
          <a:xfrm>
            <a:off x="0" y="6424560"/>
            <a:ext cx="38098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1EBCA-8635-4ED5-883E-C5EC5A65D793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66"/>
                </a:solidFill>
                <a:latin typeface="Palatino Linotype"/>
              </a:rPr>
              <a:t>Употреба инструменат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504800"/>
            <a:ext cx="8229600" cy="47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 Linotype"/>
              </a:rPr>
              <a:t>Комплет инструмената за амбулантне оралнохируршке интервенције на хируршком сточићу требало би да садрж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Palatino Linotyp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Хируршки ножић (скалпел) са држач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Palatino Linotyp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Распатори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Palatino Linotyp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Маказиц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Palatino Linotyp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Екарте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Palatino Linotyp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Инструменти за рад у кости (сврдла, длета, остеотоми, клашта за кос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Palatino Linotyp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Кирете и екскавато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Palatino Linotyp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Инструменти за вађење зуба (клешта и полуг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Palatino Linotyp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Прибор за шивењ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Palatino Linotyp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Остали инструмен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Palatino Linotyp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Palatino Linotyp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Date Placeholder 3"/>
          <p:cNvSpPr/>
          <p:nvPr/>
        </p:nvSpPr>
        <p:spPr>
          <a:xfrm>
            <a:off x="0" y="6424560"/>
            <a:ext cx="3906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DA33C-F08D-4F79-A288-2FA197306425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66"/>
                </a:solidFill>
                <a:latin typeface="Palatino Linotype"/>
              </a:rPr>
              <a:t>Основни принципи хируршког рада у устим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504800"/>
            <a:ext cx="8229600" cy="47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latino Linotype"/>
              </a:rPr>
              <a:t>Планирање мукозног режњ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-При раду на меким ткивима усне шупљине у циљу пластике мекоткивних структура, пре израде протетских надокнада у неким случајевима је потребно планирати мукозни режа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-Одизање мукозног режња изводи се тако што се иницијалним резом пресеца само слузокожа са евентуално танким слојем подслузокожног ткива. Одвајање слузокоже од субмукозног ткива најбоље је вршити тзв. Препарир маказица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Date Placeholder 3"/>
          <p:cNvSpPr/>
          <p:nvPr/>
        </p:nvSpPr>
        <p:spPr>
          <a:xfrm>
            <a:off x="0" y="6424560"/>
            <a:ext cx="37958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6B2F4-59A1-4B1B-BF21-93C09651EBD3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66"/>
                </a:solidFill>
                <a:latin typeface="Palatino Linotype"/>
              </a:rPr>
              <a:t>Основни принципи хируршког рада у устим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504800"/>
            <a:ext cx="8424720" cy="47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Palatino Linotype"/>
              </a:rPr>
              <a:t>Планирање мукопериосталног режњ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Palatino Linotype"/>
              </a:rPr>
              <a:t>     </a:t>
            </a:r>
            <a:r>
              <a:rPr b="0" lang="sr-RS" sz="1800" spc="-1" strike="noStrike">
                <a:solidFill>
                  <a:srgbClr val="000000"/>
                </a:solidFill>
                <a:latin typeface="Palatino Linotype"/>
              </a:rPr>
              <a:t>-када се интервенција планира на коштаном ткиву оперативни приступ се обезбеђује одизањем мукопериосталног режњ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Palatino Linotyp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Palatino Linotype"/>
              </a:rPr>
              <a:t>Инцизију планирати тако да се не повреде постојећи неуроваскуларни елемен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Palatino Linotyp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Palatino Linotype"/>
              </a:rPr>
              <a:t>Инцизију извести оштрим скалпелом уз чврст притисак у једном потез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Palatino Linotyp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Palatino Linotype"/>
              </a:rPr>
              <a:t>Око постојећих зуба инцизију планирати дуж гингивалног сулку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Palatino Linotyp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Palatino Linotype"/>
              </a:rPr>
              <a:t>Режањ планирати да у антеро-постериорном смеру буде шири од будућег дефек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Palatino Linotyp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Palatino Linotype"/>
              </a:rPr>
              <a:t>Режањ треба да буде широк да обезбеди адекватну видљивост и присту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Palatino Linotype"/>
              </a:rPr>
              <a:t>6) При планирању водити рачуна о прокрвљености режња ради адекватне исхране и зарастања (база режња би требало да буде шир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Palatino Linotype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Palatino Linotyp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Palatino Linotyp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Date Placeholder 3"/>
          <p:cNvSpPr/>
          <p:nvPr/>
        </p:nvSpPr>
        <p:spPr>
          <a:xfrm>
            <a:off x="0" y="6424560"/>
            <a:ext cx="38242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821A7-AAD5-4508-8044-E8D4EB44AE95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66"/>
                </a:solidFill>
                <a:latin typeface="Palatino Linotype"/>
              </a:rPr>
              <a:t>Основни принципи хируршког рада у устим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504800"/>
            <a:ext cx="8229600" cy="47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У највећем броју случајева да би се приступило патолошкој лезији која треба да се уклони потребно је уклонити мањи или већи сегмент кости. Рад у кости подразумев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Palatino Linotyp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Стварање приступа (патолошкој лезији, импактираном зубу...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Palatino Linotyp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Стварање</a:t>
            </a:r>
            <a:r>
              <a:rPr b="0" lang="sr-Latn-RS" sz="1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простора за апликацију инструмената (елеватора, клешта..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Palatino Linotyp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Стварање слободног простора (према коме ће се потиснути зуб који се вад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Palatino Linotyp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Одстрањивање измењених делова кости (секвестар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Palatino Linotyp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Корекције деформит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Palatino Linotyp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Адекватне обраде ране након завршене хируршке интервенције (уклањање оштрих ивица кост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Palatino Linotyp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Date Placeholder 3"/>
          <p:cNvSpPr/>
          <p:nvPr/>
        </p:nvSpPr>
        <p:spPr>
          <a:xfrm>
            <a:off x="0" y="6424560"/>
            <a:ext cx="3921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BB80E-C43A-4CA1-AD3F-4BF98A8431DA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Date Placeholder 3"/>
          <p:cNvSpPr/>
          <p:nvPr/>
        </p:nvSpPr>
        <p:spPr>
          <a:xfrm>
            <a:off x="0" y="6424560"/>
            <a:ext cx="37400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F5C79-BE85-4549-A1CC-C178CBE36405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71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Примена радиографисања у оралној хирургији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4" name="TextBox 7"/>
          <p:cNvSpPr/>
          <p:nvPr/>
        </p:nvSpPr>
        <p:spPr>
          <a:xfrm>
            <a:off x="285840" y="2332080"/>
            <a:ext cx="59911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Радиографисање се у оралној хирургији користи са циљем </a:t>
            </a: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планирања операције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и добијања допунских података за извођење интервенције, у циљу </a:t>
            </a: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постављања дијагнозе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у склопу оралнохируршког прегледа, као и у циљу </a:t>
            </a: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контроле постигнутих терапијских резулта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8" descr="C:\Users\Zoran\Downloads\oralna hirurgija\slike\fr.jpg"/>
          <p:cNvPicPr/>
          <p:nvPr/>
        </p:nvPicPr>
        <p:blipFill>
          <a:blip r:embed="rId1"/>
          <a:stretch/>
        </p:blipFill>
        <p:spPr>
          <a:xfrm>
            <a:off x="6337440" y="2490840"/>
            <a:ext cx="2493720" cy="194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Date Placeholder 3"/>
          <p:cNvSpPr/>
          <p:nvPr/>
        </p:nvSpPr>
        <p:spPr>
          <a:xfrm>
            <a:off x="0" y="6424560"/>
            <a:ext cx="38512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AD389-659E-4286-A09F-CAB4FA615752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Технике радиографисањ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0" name="TextBox 9"/>
          <p:cNvSpPr/>
          <p:nvPr/>
        </p:nvSpPr>
        <p:spPr>
          <a:xfrm>
            <a:off x="411120" y="1550880"/>
            <a:ext cx="8096400" cy="46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Palatino Linotype"/>
              </a:rPr>
              <a:t>ИНТРАОРАЛНЕ ТЕХНИ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Ретроалвеоларн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(техника бисектрисе, феномен паралакс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Оклузални мед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Аксијални мет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Palatino Linotype"/>
              </a:rPr>
              <a:t>ЕКСТРАОРАЛНЕ ТЕХНИ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Сагиталне, фронталне и аксијалн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ројекције ртг лобањ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2.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Снимак параназалних шупљина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8" descr="C:\Users\Zoran\Documents\TATIC\TATIC ZORAN\New Folder\folik cista 6.jpg"/>
          <p:cNvPicPr/>
          <p:nvPr/>
        </p:nvPicPr>
        <p:blipFill>
          <a:blip r:embed="rId1"/>
          <a:srcRect l="35939" t="14079" r="18324" b="11118"/>
          <a:stretch/>
        </p:blipFill>
        <p:spPr>
          <a:xfrm>
            <a:off x="5599080" y="1731960"/>
            <a:ext cx="3544920" cy="455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Date Placeholder 3"/>
          <p:cNvSpPr/>
          <p:nvPr/>
        </p:nvSpPr>
        <p:spPr>
          <a:xfrm>
            <a:off x="0" y="6424560"/>
            <a:ext cx="3879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FDC88-6D3B-4128-8EB1-95F83B579AF7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Принципи постављања дијагнозе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TextBox 7"/>
          <p:cNvSpPr/>
          <p:nvPr/>
        </p:nvSpPr>
        <p:spPr>
          <a:xfrm>
            <a:off x="493560" y="1900080"/>
            <a:ext cx="8145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Palatino Linotype"/>
              </a:rPr>
              <a:t>САМО ЈЕДНА ДИЈАГНОЗА – </a:t>
            </a:r>
            <a:r>
              <a:rPr b="0" i="1" lang="sr-CS" sz="2400" spc="-1" strike="noStrike">
                <a:solidFill>
                  <a:srgbClr val="ff0000"/>
                </a:solidFill>
                <a:latin typeface="Palatino Linotype"/>
              </a:rPr>
              <a:t>ИСПРА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 u="sng">
                <a:solidFill>
                  <a:srgbClr val="000000"/>
                </a:solidFill>
                <a:uFillTx/>
                <a:latin typeface="Palatino Linotype"/>
              </a:rPr>
              <a:t>Анамнеза</a:t>
            </a:r>
            <a:r>
              <a:rPr b="0" lang="sr-CS" sz="2400" spc="-1" strike="noStrike">
                <a:solidFill>
                  <a:srgbClr val="000000"/>
                </a:solidFill>
                <a:latin typeface="Palatino Linotype"/>
              </a:rPr>
              <a:t> – скуп података добијених од пацијента који су у вези са тегобама због којих се он јавља лекар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 u="sng">
                <a:solidFill>
                  <a:srgbClr val="000000"/>
                </a:solidFill>
                <a:uFillTx/>
                <a:latin typeface="Palatino Linotype"/>
              </a:rPr>
              <a:t>Клинички преглед </a:t>
            </a:r>
            <a:r>
              <a:rPr b="0" lang="sr-CS" sz="2400" spc="-1" strike="noStrike">
                <a:solidFill>
                  <a:srgbClr val="000000"/>
                </a:solidFill>
                <a:latin typeface="Palatino Linotype"/>
              </a:rPr>
              <a:t>- екстраорални преглед, интраорални преглед , допунски прегледи и снимањ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Date Placeholder 3"/>
          <p:cNvSpPr/>
          <p:nvPr/>
        </p:nvSpPr>
        <p:spPr>
          <a:xfrm>
            <a:off x="0" y="6424560"/>
            <a:ext cx="38368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D22F4-BAF6-4A87-AEAC-602D280B98D3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Технике радиографисањ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6" name="TextBox 8"/>
          <p:cNvSpPr/>
          <p:nvPr/>
        </p:nvSpPr>
        <p:spPr>
          <a:xfrm>
            <a:off x="469800" y="1539720"/>
            <a:ext cx="821700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Palatino Linotype"/>
              </a:rPr>
              <a:t>СПЕЦИЈАЛНЕ ТЕХНИКЕ РАДИОГРАФИСАЊ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Најчешће коришћени метод специјалне технике радиографисања назива се </a:t>
            </a:r>
            <a:r>
              <a:rPr b="0" lang="sr-CS" sz="2000" spc="-1" strike="noStrike">
                <a:solidFill>
                  <a:srgbClr val="ff0000"/>
                </a:solidFill>
                <a:latin typeface="Palatino Linotype"/>
              </a:rPr>
              <a:t>ортопантомографија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– ортопа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8" descr="C:\Users\Zoran\Downloads\oralna hirurgija\slike\images6.jpg"/>
          <p:cNvPicPr/>
          <p:nvPr/>
        </p:nvPicPr>
        <p:blipFill>
          <a:blip r:embed="rId1"/>
          <a:stretch/>
        </p:blipFill>
        <p:spPr>
          <a:xfrm>
            <a:off x="1776240" y="3147840"/>
            <a:ext cx="5581800" cy="284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Date Placeholder 3"/>
          <p:cNvSpPr/>
          <p:nvPr/>
        </p:nvSpPr>
        <p:spPr>
          <a:xfrm>
            <a:off x="0" y="6424560"/>
            <a:ext cx="38368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FBB53-5FB4-4DFE-B631-8BE350AD66BB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Технике радиографисањ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2" name="TextBox 8"/>
          <p:cNvSpPr/>
          <p:nvPr/>
        </p:nvSpPr>
        <p:spPr>
          <a:xfrm>
            <a:off x="469800" y="1539720"/>
            <a:ext cx="821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Palatino Linotype"/>
              </a:rPr>
              <a:t>СПЕЦИЈАЛНЕ ТЕХНИКЕ РАДИОГРАФИСАЊ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CB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7" descr=""/>
          <p:cNvPicPr/>
          <p:nvPr/>
        </p:nvPicPr>
        <p:blipFill>
          <a:blip r:embed="rId1"/>
          <a:stretch/>
        </p:blipFill>
        <p:spPr>
          <a:xfrm>
            <a:off x="6083280" y="2833560"/>
            <a:ext cx="2651040" cy="24768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8" descr=""/>
          <p:cNvPicPr/>
          <p:nvPr/>
        </p:nvPicPr>
        <p:blipFill>
          <a:blip r:embed="rId2"/>
          <a:stretch/>
        </p:blipFill>
        <p:spPr>
          <a:xfrm>
            <a:off x="289080" y="2944800"/>
            <a:ext cx="2823840" cy="21859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9" descr=""/>
          <p:cNvPicPr/>
          <p:nvPr/>
        </p:nvPicPr>
        <p:blipFill>
          <a:blip r:embed="rId3"/>
          <a:stretch/>
        </p:blipFill>
        <p:spPr>
          <a:xfrm>
            <a:off x="3610080" y="2778120"/>
            <a:ext cx="1881000" cy="15001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0" descr=""/>
          <p:cNvPicPr/>
          <p:nvPr/>
        </p:nvPicPr>
        <p:blipFill>
          <a:blip r:embed="rId4"/>
          <a:stretch/>
        </p:blipFill>
        <p:spPr>
          <a:xfrm>
            <a:off x="3718080" y="4684680"/>
            <a:ext cx="1598400" cy="155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Date Placeholder 3"/>
          <p:cNvSpPr/>
          <p:nvPr/>
        </p:nvSpPr>
        <p:spPr>
          <a:xfrm>
            <a:off x="0" y="6424560"/>
            <a:ext cx="38368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657FB-C435-408F-9592-C0ECD0207089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Технике радиографисањ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1" name="TextBox 8"/>
          <p:cNvSpPr/>
          <p:nvPr/>
        </p:nvSpPr>
        <p:spPr>
          <a:xfrm>
            <a:off x="469800" y="1539720"/>
            <a:ext cx="821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Palatino Linotype"/>
              </a:rPr>
              <a:t>СПЕЦИЈАЛНЕ ТЕХНИКЕ РАДИОГРАФИСАЊ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CB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11" descr="CBCT-3rd-molar.jpg"/>
          <p:cNvPicPr/>
          <p:nvPr/>
        </p:nvPicPr>
        <p:blipFill>
          <a:blip r:embed="rId1"/>
          <a:stretch/>
        </p:blipFill>
        <p:spPr>
          <a:xfrm>
            <a:off x="2565360" y="2081160"/>
            <a:ext cx="4732200" cy="431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Date Placeholder 3"/>
          <p:cNvSpPr/>
          <p:nvPr/>
        </p:nvSpPr>
        <p:spPr>
          <a:xfrm>
            <a:off x="0" y="6424560"/>
            <a:ext cx="3948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27180-925F-4D7B-8AD7-F5B6C9619217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Примена радиографисања у оралној хирургији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87" name="Picture 7" descr="C:\Users\Zoran\Downloads\oralna hirurgija\slike\imagescc.jpg"/>
          <p:cNvPicPr/>
          <p:nvPr/>
        </p:nvPicPr>
        <p:blipFill>
          <a:blip r:embed="rId1"/>
          <a:stretch/>
        </p:blipFill>
        <p:spPr>
          <a:xfrm>
            <a:off x="1071720" y="2414520"/>
            <a:ext cx="3941640" cy="2627280"/>
          </a:xfrm>
          <a:prstGeom prst="rect">
            <a:avLst/>
          </a:prstGeom>
          <a:ln w="0">
            <a:noFill/>
          </a:ln>
        </p:spPr>
      </p:pic>
      <p:cxnSp>
        <p:nvCxnSpPr>
          <p:cNvPr id="188" name="Straight Arrow Connector 8"/>
          <p:cNvCxnSpPr/>
          <p:nvPr/>
        </p:nvCxnSpPr>
        <p:spPr>
          <a:xfrm flipV="1">
            <a:off x="3321000" y="1696680"/>
            <a:ext cx="1696320" cy="102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89" name="TextBox 9"/>
          <p:cNvSpPr/>
          <p:nvPr/>
        </p:nvSpPr>
        <p:spPr>
          <a:xfrm>
            <a:off x="5126040" y="1563840"/>
            <a:ext cx="401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Palatino Linotype"/>
              </a:rPr>
              <a:t>Зубна глеђ – најјача се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" name="Straight Arrow Connector 11"/>
          <p:cNvCxnSpPr/>
          <p:nvPr/>
        </p:nvCxnSpPr>
        <p:spPr>
          <a:xfrm flipV="1">
            <a:off x="3247560" y="2453760"/>
            <a:ext cx="2467800" cy="49464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91" name="Straight Arrow Connector 13"/>
          <p:cNvCxnSpPr/>
          <p:nvPr/>
        </p:nvCxnSpPr>
        <p:spPr>
          <a:xfrm flipV="1">
            <a:off x="2598480" y="2453400"/>
            <a:ext cx="3129480" cy="87876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192" name="TextBox 14"/>
          <p:cNvSpPr/>
          <p:nvPr/>
        </p:nvSpPr>
        <p:spPr>
          <a:xfrm>
            <a:off x="5799240" y="2286000"/>
            <a:ext cx="334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Palatino Linotype"/>
              </a:rPr>
              <a:t>Дентин и цем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3" name="Straight Arrow Connector 16"/>
          <p:cNvCxnSpPr/>
          <p:nvPr/>
        </p:nvCxnSpPr>
        <p:spPr>
          <a:xfrm>
            <a:off x="2840040" y="3187800"/>
            <a:ext cx="2851920" cy="11088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94" name="Straight Arrow Connector 18"/>
          <p:cNvCxnSpPr/>
          <p:nvPr/>
        </p:nvCxnSpPr>
        <p:spPr>
          <a:xfrm>
            <a:off x="3236760" y="3814920"/>
            <a:ext cx="2407680" cy="4687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95" name="TextBox 20"/>
          <p:cNvSpPr/>
          <p:nvPr/>
        </p:nvSpPr>
        <p:spPr>
          <a:xfrm>
            <a:off x="5811840" y="4127400"/>
            <a:ext cx="315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Palatino Linotype"/>
              </a:rPr>
              <a:t>Cavum dentis</a:t>
            </a:r>
            <a:r>
              <a:rPr b="0" lang="sr-CS" sz="1800" spc="-1" strike="noStrike">
                <a:solidFill>
                  <a:srgbClr val="000000"/>
                </a:solidFill>
                <a:latin typeface="Palatino Linotype"/>
              </a:rPr>
              <a:t>- светл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Date Placeholder 3"/>
          <p:cNvSpPr/>
          <p:nvPr/>
        </p:nvSpPr>
        <p:spPr>
          <a:xfrm>
            <a:off x="0" y="6424560"/>
            <a:ext cx="38368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F0EEB-2A09-4E1E-817C-A1951671E6DC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Примена радиографисања у оралној хирургији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00" name="Picture 8" descr="C:\Users\Zoran\Downloads\oralna hirurgija\slike\fr.jpg"/>
          <p:cNvPicPr/>
          <p:nvPr/>
        </p:nvPicPr>
        <p:blipFill>
          <a:blip r:embed="rId1"/>
          <a:srcRect l="0" t="-4689" r="44740" b="0"/>
          <a:stretch/>
        </p:blipFill>
        <p:spPr>
          <a:xfrm>
            <a:off x="638280" y="1492200"/>
            <a:ext cx="2608200" cy="3851280"/>
          </a:xfrm>
          <a:prstGeom prst="rect">
            <a:avLst/>
          </a:prstGeom>
          <a:ln w="0">
            <a:noFill/>
          </a:ln>
        </p:spPr>
      </p:pic>
      <p:cxnSp>
        <p:nvCxnSpPr>
          <p:cNvPr id="201" name="Straight Arrow Connector 9"/>
          <p:cNvCxnSpPr/>
          <p:nvPr/>
        </p:nvCxnSpPr>
        <p:spPr>
          <a:xfrm flipV="1">
            <a:off x="2249640" y="2272680"/>
            <a:ext cx="1853280" cy="856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02" name="TextBox 10"/>
          <p:cNvSpPr/>
          <p:nvPr/>
        </p:nvSpPr>
        <p:spPr>
          <a:xfrm>
            <a:off x="4235400" y="2070000"/>
            <a:ext cx="490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Palatino Linotype"/>
              </a:rPr>
              <a:t>Око зуба се налази танка зона рендген светлине - периодонтални прос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3" name="Straight Arrow Connector 12"/>
          <p:cNvCxnSpPr/>
          <p:nvPr/>
        </p:nvCxnSpPr>
        <p:spPr>
          <a:xfrm flipV="1">
            <a:off x="2285640" y="3452400"/>
            <a:ext cx="1708920" cy="374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04" name="TextBox 13"/>
          <p:cNvSpPr/>
          <p:nvPr/>
        </p:nvSpPr>
        <p:spPr>
          <a:xfrm>
            <a:off x="4138560" y="3308400"/>
            <a:ext cx="484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Palatino Linotype"/>
              </a:rPr>
              <a:t>На периферији се налази танка зона рендген сенке компакте која облаже алвеоларну чашицу – </a:t>
            </a:r>
            <a:r>
              <a:rPr b="0" i="1" lang="en-US" sz="1800" spc="-1" strike="noStrike">
                <a:solidFill>
                  <a:srgbClr val="000000"/>
                </a:solidFill>
                <a:latin typeface="Palatino Linotype"/>
              </a:rPr>
              <a:t>lamina d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14"/>
          <p:cNvSpPr/>
          <p:nvPr/>
        </p:nvSpPr>
        <p:spPr>
          <a:xfrm>
            <a:off x="3465360" y="4764240"/>
            <a:ext cx="5389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Palatino Linotype"/>
              </a:rPr>
              <a:t>Једнолична ширина овог простора, као и не прекинута , јасно ограничена </a:t>
            </a:r>
            <a:r>
              <a:rPr b="0" i="1" lang="en-US" sz="1800" spc="-1" strike="noStrike">
                <a:solidFill>
                  <a:srgbClr val="000000"/>
                </a:solidFill>
                <a:latin typeface="Palatino Linotype"/>
              </a:rPr>
              <a:t>lamina dura</a:t>
            </a:r>
            <a:r>
              <a:rPr b="0" i="1" lang="sr-CS" sz="1800" spc="-1" strike="noStrike">
                <a:solidFill>
                  <a:srgbClr val="000000"/>
                </a:solidFill>
                <a:latin typeface="Palatino Linotype"/>
              </a:rPr>
              <a:t> – нема патолошких промена у овом сегмент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Date Placeholder 3"/>
          <p:cNvSpPr/>
          <p:nvPr/>
        </p:nvSpPr>
        <p:spPr>
          <a:xfrm>
            <a:off x="0" y="6424560"/>
            <a:ext cx="39625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CCEA6-6AF7-4BAB-A325-6F9A0DB0D813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Примена радиографисања у оралној хирургији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10" name="Picture 10" descr="C:\Users\Zoran\Downloads\oralna hirurgija\slike\images77.jpg"/>
          <p:cNvPicPr/>
          <p:nvPr/>
        </p:nvPicPr>
        <p:blipFill>
          <a:blip r:embed="rId1"/>
          <a:stretch/>
        </p:blipFill>
        <p:spPr>
          <a:xfrm>
            <a:off x="372960" y="2119320"/>
            <a:ext cx="2273400" cy="30495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1" descr="C:\Users\Zoran\Downloads\oralna hirurgija\slike\p.bmp"/>
          <p:cNvPicPr/>
          <p:nvPr/>
        </p:nvPicPr>
        <p:blipFill>
          <a:blip r:embed="rId2"/>
          <a:stretch/>
        </p:blipFill>
        <p:spPr>
          <a:xfrm>
            <a:off x="2900520" y="2459160"/>
            <a:ext cx="3367080" cy="22320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2" descr="C:\Users\Zoran\Downloads\oralna hirurgija\slike\pg.jpg"/>
          <p:cNvPicPr/>
          <p:nvPr/>
        </p:nvPicPr>
        <p:blipFill>
          <a:blip r:embed="rId3"/>
          <a:stretch/>
        </p:blipFill>
        <p:spPr>
          <a:xfrm>
            <a:off x="6523200" y="2160720"/>
            <a:ext cx="2360520" cy="302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Date Placeholder 3"/>
          <p:cNvSpPr/>
          <p:nvPr/>
        </p:nvSpPr>
        <p:spPr>
          <a:xfrm>
            <a:off x="0" y="6424560"/>
            <a:ext cx="37958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5C5FE-5771-41FB-8A39-9807BFE726A9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Примена радиографисања у оралној хирургији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17" name="Picture 8" descr="C:\Users\Zoran\Pictures\imagesCAQO43CF.jpg"/>
          <p:cNvPicPr/>
          <p:nvPr/>
        </p:nvPicPr>
        <p:blipFill>
          <a:blip r:embed="rId1"/>
          <a:stretch/>
        </p:blipFill>
        <p:spPr>
          <a:xfrm>
            <a:off x="608040" y="2230560"/>
            <a:ext cx="2038320" cy="22478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9" descr="C:\Users\Zoran\Pictures\imagesCAT2I49G.jpg"/>
          <p:cNvPicPr/>
          <p:nvPr/>
        </p:nvPicPr>
        <p:blipFill>
          <a:blip r:embed="rId2"/>
          <a:stretch/>
        </p:blipFill>
        <p:spPr>
          <a:xfrm>
            <a:off x="6464160" y="2133720"/>
            <a:ext cx="1668600" cy="25905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0" descr="C:\Users\Zoran\Pictures\X-20101124110626672.jpg"/>
          <p:cNvPicPr/>
          <p:nvPr/>
        </p:nvPicPr>
        <p:blipFill>
          <a:blip r:embed="rId3"/>
          <a:stretch/>
        </p:blipFill>
        <p:spPr>
          <a:xfrm>
            <a:off x="3297240" y="1824120"/>
            <a:ext cx="2535120" cy="316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Принципи постављања дијагнозе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Date Placeholder 3"/>
          <p:cNvSpPr/>
          <p:nvPr/>
        </p:nvSpPr>
        <p:spPr>
          <a:xfrm>
            <a:off x="0" y="6424560"/>
            <a:ext cx="40449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Latn-CS" sz="1000" spc="-1" strike="noStrike">
                <a:solidFill>
                  <a:srgbClr val="000000"/>
                </a:solidFill>
                <a:latin typeface="Palatino Linotype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115BA-DEAF-4C3C-91EA-68DF503F15F0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6"/>
          <p:cNvSpPr/>
          <p:nvPr/>
        </p:nvSpPr>
        <p:spPr>
          <a:xfrm>
            <a:off x="444600" y="1146240"/>
            <a:ext cx="8157960" cy="43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Palatino Linotype"/>
              </a:rPr>
              <a:t>АНАМНЕ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Palatino Linotype"/>
              </a:rPr>
              <a:t>Генерал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Palatino Linotype"/>
              </a:rPr>
              <a:t>Главне тегобе ( зашто се пацијент јавио на преглед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Palatino Linotype"/>
              </a:rPr>
              <a:t>Садашња болест ( детаљно се обрађују подаци из главне тегобе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7" descr="171fc14b49a79ea979710de5b3402b30_XL.jpg"/>
          <p:cNvPicPr/>
          <p:nvPr/>
        </p:nvPicPr>
        <p:blipFill>
          <a:blip r:embed="rId1"/>
          <a:stretch/>
        </p:blipFill>
        <p:spPr>
          <a:xfrm>
            <a:off x="2646360" y="4160880"/>
            <a:ext cx="4033800" cy="18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Принципи постављања дијагнозе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434960"/>
            <a:ext cx="8229600" cy="47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0000"/>
                </a:solidFill>
                <a:latin typeface="Palatino Linotype"/>
              </a:rPr>
              <a:t>БОЛ</a:t>
            </a:r>
            <a:r>
              <a:rPr b="1" lang="sr-CS" sz="24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Palatino Linotype"/>
              </a:rPr>
              <a:t>(најчешћи разлог посете стоматологу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Кад се бол први пут јави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Да ли је континуиран или са прекиди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Карактер бола (оштар, туп, севајући..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Да ли се јавља спонтано или на надража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Да ли траје само док и надражај или и после надража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Дневна динамика бола (да ли се појачава ноћу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Локализација бо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ate Placeholder 3"/>
          <p:cNvSpPr/>
          <p:nvPr/>
        </p:nvSpPr>
        <p:spPr>
          <a:xfrm>
            <a:off x="0" y="6424560"/>
            <a:ext cx="39895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47C7A-3F21-49C8-A697-39447AA02CB4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6" descr="dolor-de-muelas-insoportable.jpg"/>
          <p:cNvPicPr/>
          <p:nvPr/>
        </p:nvPicPr>
        <p:blipFill>
          <a:blip r:embed="rId1"/>
          <a:stretch/>
        </p:blipFill>
        <p:spPr>
          <a:xfrm>
            <a:off x="3490920" y="4923000"/>
            <a:ext cx="2065320" cy="14032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" descr="mal-di-denti-e1482837979697.jpg"/>
          <p:cNvPicPr/>
          <p:nvPr/>
        </p:nvPicPr>
        <p:blipFill>
          <a:blip r:embed="rId2"/>
          <a:stretch/>
        </p:blipFill>
        <p:spPr>
          <a:xfrm>
            <a:off x="5556240" y="4917960"/>
            <a:ext cx="2084400" cy="13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Принципи постављања дијагнозе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Date Placeholder 3"/>
          <p:cNvSpPr/>
          <p:nvPr/>
        </p:nvSpPr>
        <p:spPr>
          <a:xfrm>
            <a:off x="0" y="6424560"/>
            <a:ext cx="38242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Latn-CS" sz="1000" spc="-1" strike="noStrike">
                <a:solidFill>
                  <a:srgbClr val="000000"/>
                </a:solidFill>
                <a:latin typeface="Palatino Linotype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74FA0-B33A-462F-BF15-EB396D7BF12C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6"/>
          <p:cNvSpPr/>
          <p:nvPr/>
        </p:nvSpPr>
        <p:spPr>
          <a:xfrm>
            <a:off x="482760" y="1397160"/>
            <a:ext cx="8216640" cy="32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0000"/>
                </a:solidFill>
                <a:latin typeface="Palatino Linotype"/>
              </a:rPr>
              <a:t>ОТО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Кад се оток појави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Да ли је мењао своје дименз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Каквих је карактеристика (конзистенције, боје, температуре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Општи симптоми (повишена температура, језа, малаксалост, губитак апетит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Локални симптоми ( ограничено отварање уста, отежано гутање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7" descr="C:\Users\Zoran\Downloads\oralna hirurgija\slike\download.jpg"/>
          <p:cNvPicPr/>
          <p:nvPr/>
        </p:nvPicPr>
        <p:blipFill>
          <a:blip r:embed="rId1"/>
          <a:srcRect l="35121" t="1936" r="3272" b="3171"/>
          <a:stretch/>
        </p:blipFill>
        <p:spPr>
          <a:xfrm>
            <a:off x="2133720" y="4199040"/>
            <a:ext cx="1538280" cy="19746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advanced-abscess-300x272.jpg"/>
          <p:cNvPicPr/>
          <p:nvPr/>
        </p:nvPicPr>
        <p:blipFill>
          <a:blip r:embed="rId2"/>
          <a:stretch/>
        </p:blipFill>
        <p:spPr>
          <a:xfrm>
            <a:off x="4627440" y="4184640"/>
            <a:ext cx="2244960" cy="20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Принципи постављања дијагнозе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" name="Date Placeholder 3"/>
          <p:cNvSpPr/>
          <p:nvPr/>
        </p:nvSpPr>
        <p:spPr>
          <a:xfrm>
            <a:off x="0" y="6424560"/>
            <a:ext cx="38242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346D5-3CD2-425E-83E5-F12617802C52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6"/>
          <p:cNvSpPr/>
          <p:nvPr/>
        </p:nvSpPr>
        <p:spPr>
          <a:xfrm>
            <a:off x="493560" y="1558800"/>
            <a:ext cx="7777440" cy="465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Palatino Linotype"/>
              </a:rPr>
              <a:t>КЛИНИЧКИ ПРЕГЛЕ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Инспекција</a:t>
            </a:r>
            <a:r>
              <a:rPr b="0" lang="sr-Latn-R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(екстраорална и интраорална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Палпација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(отоци, пљ. жлезде, л.жлезде, ТМЗ и Валеове т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Перкусија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(вертикална и хоризонтална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Сондирање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(зуби, пародонтални џепови, екс. ране, фистуле, ороантралне комуникације и изводни канали пљ. жлезда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Испитивање сензибилит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7" descr="EXTRACCION.jpg"/>
          <p:cNvPicPr/>
          <p:nvPr/>
        </p:nvPicPr>
        <p:blipFill>
          <a:blip r:embed="rId1"/>
          <a:stretch/>
        </p:blipFill>
        <p:spPr>
          <a:xfrm>
            <a:off x="5708520" y="4815000"/>
            <a:ext cx="2336760" cy="155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Принципи постављања дијагнозе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" name="Date Placeholder 3"/>
          <p:cNvSpPr/>
          <p:nvPr/>
        </p:nvSpPr>
        <p:spPr>
          <a:xfrm>
            <a:off x="0" y="6424560"/>
            <a:ext cx="3921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Latn-CS" sz="1000" spc="-1" strike="noStrike">
                <a:solidFill>
                  <a:srgbClr val="000000"/>
                </a:solidFill>
                <a:latin typeface="Palatino Linotype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78C46-CEE6-4162-9214-520E95AA820C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6"/>
          <p:cNvSpPr/>
          <p:nvPr/>
        </p:nvSpPr>
        <p:spPr>
          <a:xfrm>
            <a:off x="444600" y="1720800"/>
            <a:ext cx="825480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Palatino Linotype"/>
              </a:rPr>
              <a:t>Диференцијална дијагноза обољења</a:t>
            </a:r>
            <a:r>
              <a:rPr b="1" lang="en-US" sz="24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Palatino Linotype"/>
              </a:rPr>
              <a:t>пулпе и пародонцију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Palatino Linotype"/>
              </a:rPr>
              <a:t>Caries profun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Palatino Linotype"/>
              </a:rPr>
              <a:t>Pulpitis acuta serosa partial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Palatino Linotype"/>
              </a:rPr>
              <a:t>Pulpitis acuta serosa total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Palatino Linotype"/>
              </a:rPr>
              <a:t>Pulpitis acuta purulenta partial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Palatino Linotype"/>
              </a:rPr>
              <a:t>Pulpitis acuta purulenta total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Palatino Linotype"/>
              </a:rPr>
              <a:t>Necrosis et gangraena pul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Palatino Linotype"/>
              </a:rPr>
              <a:t>Pulpitis chron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7" descr="C:\Users\Zoran\Downloads\oralna hirurgija\slike\images 55.jpg"/>
          <p:cNvPicPr/>
          <p:nvPr/>
        </p:nvPicPr>
        <p:blipFill>
          <a:blip r:embed="rId1"/>
          <a:stretch/>
        </p:blipFill>
        <p:spPr>
          <a:xfrm>
            <a:off x="4272120" y="3143160"/>
            <a:ext cx="459396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Принципи постављања дијагнозе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9" name="Date Placeholder 3"/>
          <p:cNvSpPr/>
          <p:nvPr/>
        </p:nvSpPr>
        <p:spPr>
          <a:xfrm>
            <a:off x="0" y="6424560"/>
            <a:ext cx="3906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Latn-CS" sz="1000" spc="-1" strike="noStrike">
                <a:solidFill>
                  <a:srgbClr val="000000"/>
                </a:solidFill>
                <a:latin typeface="Palatino Linotype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BE440-F58D-414E-A0D3-F1A8309664CB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6"/>
          <p:cNvSpPr/>
          <p:nvPr/>
        </p:nvSpPr>
        <p:spPr>
          <a:xfrm>
            <a:off x="469800" y="1671480"/>
            <a:ext cx="82296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Palatino Linotype"/>
              </a:rPr>
              <a:t>Parodontitis acuta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ериодомцијумс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еностал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субпериостал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субмукоз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Palatino Linotype"/>
              </a:rPr>
              <a:t>Parodontitis chronica – granul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Palatino Linotype"/>
              </a:rPr>
              <a:t>Abscessus dentoalveolaris acu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Palatino Linotype"/>
              </a:rPr>
              <a:t>Abscessus parodontal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Palatino Linotype"/>
              </a:rPr>
              <a:t>Pericoronit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7" descr="C:\Users\Zoran\Downloads\oralna hirurgija\slike\imageslll.jpg"/>
          <p:cNvPicPr/>
          <p:nvPr/>
        </p:nvPicPr>
        <p:blipFill>
          <a:blip r:embed="rId1"/>
          <a:stretch/>
        </p:blipFill>
        <p:spPr>
          <a:xfrm>
            <a:off x="5411880" y="1473120"/>
            <a:ext cx="2701800" cy="22543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C:\Users\Zoran\Downloads\oralna hirurgija\slike\images rt.jpg"/>
          <p:cNvPicPr/>
          <p:nvPr/>
        </p:nvPicPr>
        <p:blipFill>
          <a:blip r:embed="rId2"/>
          <a:srcRect l="0" t="2946" r="21747" b="-130"/>
          <a:stretch/>
        </p:blipFill>
        <p:spPr>
          <a:xfrm>
            <a:off x="5818320" y="3873600"/>
            <a:ext cx="1773000" cy="20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66"/>
                </a:solidFill>
                <a:latin typeface="Palatino Linotype"/>
              </a:rPr>
              <a:t>Принципи асептичног рада 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504800"/>
            <a:ext cx="8229600" cy="47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Хируршке интервенције у усној дупљи се не могу изводити у строго асептичним условима, међутим могућност контаминације операцијске ране нестерилним инструментима или нестерилним материјалом се обавезно мора спречи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 Linotype"/>
              </a:rPr>
              <a:t>Под асептичним поступком се подразумева спречавање контаминације ране у току операције. Ово се постиж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Palatino Linotyp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Применом стерилних инструмената и применом стерилног материја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Palatino Linotyp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Одговарајућом припремом лекара за хируршку интервенциј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Palatino Linotyp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Припремом операцијског пољ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Palatino Linotyp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0" y="6424560"/>
            <a:ext cx="37958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660B0-4375-43D9-BCA5-4A34525E4CDC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6T20:52:51Z</dcterms:created>
  <dc:creator>Kaja</dc:creator>
  <dc:description/>
  <dc:language>en-US</dc:language>
  <cp:lastModifiedBy>Korisnik</cp:lastModifiedBy>
  <dcterms:modified xsi:type="dcterms:W3CDTF">2019-09-09T15:59:14Z</dcterms:modified>
  <cp:revision>985</cp:revision>
  <dc:subject/>
  <dc:title>NAZIV PREDAVANJA</dc:title>
</cp:coreProperties>
</file>